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FAA-BC2F-4556-8FC1-9FB88A40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4B1-F991-421B-9354-F6285BDD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60B-F947-49D0-8952-6516A17A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FD2-56C2-4E26-817B-6DFE38C9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A34-618C-40F7-B1A4-6E09D947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D1F-D657-41C5-B9D6-A7988724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5C9-3F97-4AC0-9EE3-868EE683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1AD-7C55-4496-8AA8-BA67B5DD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EB3-AADC-4787-811B-39D0248A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2AF4-EBFD-47D6-B0C4-71B2A308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B51-0BF7-49AF-BD53-15166BE5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326-1C8F-4ACE-AAFF-1728A4D2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8FDF-2C67-474D-8C62-30462F20091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04Z</dcterms:modified>
  <cp:revision>139</cp:revision>
  <dc:subject/>
  <dc:title>Models for Regular Languages</dc:title>
</cp:coreProperties>
</file>